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84A7-2AD9-4A03-ABE0-B2A398360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FDEA-46CD-41A9-89A7-D5A6DA43E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C7B7-FB07-4017-A833-30C9ED71E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D072-F1A9-45B5-8F64-21D9EE764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F65-18B5-494B-B93D-DFC451708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BE9-9F98-4BE3-B5BD-A91FCAA3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D15-507E-4E58-BB07-701A799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828-7599-4834-84C8-9AD4C5D0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BB7-DD31-4506-9564-7F34D1DF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21B-7C4C-4A1A-B478-6E7F448B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B1B-54F4-48D4-A178-4FC9F0EB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2ED-6738-4929-B193-945526DC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58C-9EC9-4EEA-AC1E-4068C5BB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DCD-3CF5-4782-8C04-9C845DC5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0CD-F28D-49B4-865A-FB2AB20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738-ACBD-4FB9-8016-AD84AE5C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BE3-869E-4E70-AEF7-108F3407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F891-9E71-4DD5-982B-AD1342062B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4D60-DB4C-4DB5-8914-6AE42B8B0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paracin.rs/index.php/budzet-opstine-paracin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57B4-FC73-4266-8ACF-FB1396C07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ПШТИНА ПАРАЋ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967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ГРАЂАНСКИ ВОДИЧ КРОЗ ОДЛУКУ О БУЏЕТУ за 2022. год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5FF9-F0AA-41E6-887F-20EAC9640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grb"/>
          <p:cNvPicPr/>
          <p:nvPr/>
        </p:nvPicPr>
        <p:blipFill>
          <a:blip r:embed="rId1"/>
          <a:stretch/>
        </p:blipFill>
        <p:spPr>
          <a:xfrm>
            <a:off x="3924360" y="549360"/>
            <a:ext cx="12668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6053-7EF7-4A96-BB5F-F48C6CAA0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Како се пуни општинска кас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1680" y="1001520"/>
            <a:ext cx="8286480" cy="557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Укупни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јавни приходи и примањ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општине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Параћин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за 2022. годину износ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Одлуком о буџету општине 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Параћин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за 2022. годину планирана су средства из буџета општине у износу од</a:t>
            </a:r>
            <a:r>
              <a:rPr b="0" lang="en-GB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.690.000.000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динара, пренета средства из ранијих година у износу од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64.943.423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динара и средства из осталих извора у износу од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01.108.000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динар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D0D4-8C21-48E3-8589-43A5594BB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Diagram 5" descr=""/>
          <p:cNvPicPr/>
          <p:nvPr/>
        </p:nvPicPr>
        <p:blipFill>
          <a:blip r:embed="rId1"/>
          <a:stretch/>
        </p:blipFill>
        <p:spPr>
          <a:xfrm>
            <a:off x="981000" y="4438800"/>
            <a:ext cx="7297920" cy="1766880"/>
          </a:xfrm>
          <a:prstGeom prst="rect">
            <a:avLst/>
          </a:prstGeom>
          <a:ln w="0">
            <a:noFill/>
          </a:ln>
        </p:spPr>
      </p:pic>
      <p:sp>
        <p:nvSpPr>
          <p:cNvPr id="97" name="Equals 6"/>
          <p:cNvSpPr/>
          <p:nvPr/>
        </p:nvSpPr>
        <p:spPr>
          <a:xfrm>
            <a:off x="2627280" y="1844640"/>
            <a:ext cx="1047960" cy="979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163368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3"/>
          <p:cNvSpPr/>
          <p:nvPr/>
        </p:nvSpPr>
        <p:spPr>
          <a:xfrm>
            <a:off x="3878280" y="1839960"/>
            <a:ext cx="497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856.051.423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ди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F3AD-5617-40C5-A8EF-4AA5A897D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Шта су приходи и примања буџе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5" descr=""/>
          <p:cNvPicPr/>
          <p:nvPr/>
        </p:nvPicPr>
        <p:blipFill>
          <a:blip r:embed="rId1"/>
          <a:stretch/>
        </p:blipFill>
        <p:spPr>
          <a:xfrm>
            <a:off x="450720" y="1122480"/>
            <a:ext cx="8577360" cy="560700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4DFC-BE96-490C-AE8E-160D4C572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D3A3-E3C0-40BA-B487-662A6D311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0680" y="247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труктура планираних прихода и примања за 20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. годи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FEC5-4F9C-49C5-9CF8-0EEF1D2A2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Diagram 4" descr=""/>
          <p:cNvPicPr/>
          <p:nvPr/>
        </p:nvPicPr>
        <p:blipFill>
          <a:blip r:embed="rId1"/>
          <a:stretch/>
        </p:blipFill>
        <p:spPr>
          <a:xfrm>
            <a:off x="1255680" y="1407960"/>
            <a:ext cx="667548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7727-7434-4509-9E16-725CAC002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Структура планираних прихода и примања за 202</a:t>
            </a:r>
            <a:r>
              <a:rPr b="1" lang="sr-RS" sz="2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. годин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D26D-A0CA-4A55-9791-81754DF8E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hart 6" descr=""/>
          <p:cNvPicPr/>
          <p:nvPr/>
        </p:nvPicPr>
        <p:blipFill>
          <a:blip r:embed="rId1"/>
          <a:stretch/>
        </p:blipFill>
        <p:spPr>
          <a:xfrm>
            <a:off x="1700280" y="1487520"/>
            <a:ext cx="56754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E6DB-BB4C-459E-A351-496B05F4D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Шта се променило у односу на 2021. годин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6360" y="1509480"/>
            <a:ext cx="82296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купни приходи и примања наше општине у 2022. години (извор финансирања 01 – средства из буџета) су се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мањили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 односу на последњу измену Одлуке о буџету за 2021. годину за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000.000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нара, односно за</a:t>
            </a:r>
            <a:r>
              <a:rPr b="0" lang="sr-R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0,59</a:t>
            </a:r>
            <a:r>
              <a:rPr b="1" lang="sr-R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7640" y="3929040"/>
            <a:ext cx="68518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Примања од продаје нефинансијске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sr-RS" sz="2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имовин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ена за 40.000.000 дин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sr-RS" sz="2000" spc="-1" strike="noStrike">
                <a:solidFill>
                  <a:srgbClr val="ff0000"/>
                </a:solidFill>
                <a:latin typeface="Calibri"/>
              </a:rPr>
              <a:t>Непорески приходи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за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31.1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000 дина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нсфер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 остали на истом ниво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928880" y="3143160"/>
            <a:ext cx="69292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Порески приход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су повећани за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61.100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дина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000080" y="2786040"/>
            <a:ext cx="486000" cy="1000080"/>
          </a:xfrm>
          <a:prstGeom prst="upArrow">
            <a:avLst>
              <a:gd name="adj1" fmla="val 50000"/>
              <a:gd name="adj2" fmla="val 77824"/>
            </a:avLst>
          </a:prstGeom>
          <a:solidFill>
            <a:srgbClr val="3366ff"/>
          </a:soli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BF4C-470F-4CD6-953A-BF71F23B5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wn Arrow 8"/>
          <p:cNvSpPr/>
          <p:nvPr/>
        </p:nvSpPr>
        <p:spPr>
          <a:xfrm>
            <a:off x="1000080" y="40006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128D-F679-4093-92E6-633BEFCD6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а шта се троше јавна средств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8708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Буџет мора бити у равнотежи, што значи да расходи морају одговарати приходима. Укупни планирани расходи и издаци у 202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 години из буџета износе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РАСХОДИ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Расходи представљају све трошкове општине за плате буџетских корисника, набавку роба и услуга, субвенције, дотације и трансфере, социјалну помоћ и остале трошкове које општина обезбеђује без директне и непосредне накнаде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ИЗДАЦ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представљају трошкове изградње или инвестиционог одржавања већ постојећих објеката, набавку земљишта, машина и опрeме неопходне за рад буџетских корисник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РАСХОДИ И ИЗДАЦИ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морају се исказивати на законом прописан начин, односно морају се исказивати: по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програмим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који показују колико се троши за извршавање основних надлежности и стратешких циљева општине; по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основној намени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која показује за коју врсту трошка се средства издвајају; по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функциј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која показује функционалну намену за одређену област и по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корисницима буџет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што показује организацију рада општин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DD31-7210-4CA3-ACC9-39E72D9F5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: Rounded Corners 23"/>
          <p:cNvSpPr/>
          <p:nvPr/>
        </p:nvSpPr>
        <p:spPr>
          <a:xfrm>
            <a:off x="2843280" y="2133720"/>
            <a:ext cx="338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856.051.423 ди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EEFD-4DF8-4C94-A6B3-576C58D17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CCAB-A75C-41DC-ACD9-CA40257F2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609480" y="26352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Шта су расходи и издаци буџе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FE06-AA1E-45ED-989D-18CBCE981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Content Placeholder 5" descr=""/>
          <p:cNvPicPr/>
          <p:nvPr/>
        </p:nvPicPr>
        <p:blipFill>
          <a:blip r:embed="rId1"/>
          <a:stretch/>
        </p:blipFill>
        <p:spPr>
          <a:xfrm>
            <a:off x="781200" y="1047600"/>
            <a:ext cx="78501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8D0F-5104-43BD-BD2A-5E812FD61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Структура планираних расхода и издатака буџета за 2022. годин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Content Placeholder 4" descr=""/>
          <p:cNvPicPr/>
          <p:nvPr/>
        </p:nvPicPr>
        <p:blipFill>
          <a:blip r:embed="rId1"/>
          <a:stretch/>
        </p:blipFill>
        <p:spPr>
          <a:xfrm>
            <a:off x="469800" y="1195560"/>
            <a:ext cx="8240760" cy="510192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A05D-5BC8-4DB8-9928-A52C78F7E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FC08-2F17-476D-B7B8-9A0F61839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03EC-0D50-4F25-A663-994E2C4A4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900" spc="-1" strike="noStrike">
                <a:solidFill>
                  <a:srgbClr val="000000"/>
                </a:solidFill>
                <a:latin typeface="Calibri"/>
              </a:rPr>
              <a:t>Структура планираних расхода и издатака буџета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Calibri"/>
              </a:rPr>
              <a:t>за 2022. годин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hart 5" descr=""/>
          <p:cNvPicPr/>
          <p:nvPr/>
        </p:nvPicPr>
        <p:blipFill>
          <a:blip r:embed="rId1"/>
          <a:stretch/>
        </p:blipFill>
        <p:spPr>
          <a:xfrm>
            <a:off x="1487520" y="1700280"/>
            <a:ext cx="62056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C7D9-9F0E-467A-9B43-7A08C2569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620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та се променило у односу на 202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годин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80960" y="109224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купни трошкови наше општине у 20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години (извор финансирања 01 – средства из буџета) су се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смањ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у односу на последњу измену Одлуке о буџету за 20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годину за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000.0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инара, односно за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0,59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785960" y="228564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c00000"/>
                </a:solidFill>
                <a:latin typeface="Arial"/>
                <a:ea typeface="Arial"/>
              </a:rPr>
              <a:t>Донације и трансфери</a:t>
            </a:r>
            <a:r>
              <a:rPr b="1" lang="en-US" sz="17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су смањени за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10.232.818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динар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SimSu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ff0000"/>
                </a:solidFill>
                <a:latin typeface="Arial"/>
                <a:ea typeface="SimSun"/>
              </a:rPr>
              <a:t>Остали расходи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SimSun"/>
              </a:rPr>
              <a:t>су смањени за 176.698 динар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Капитални издаци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су смањени за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144.170.114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динар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ff0000"/>
                </a:solidFill>
                <a:latin typeface="Arial"/>
                <a:ea typeface="Arial"/>
              </a:rPr>
              <a:t>Отплата главнице и камате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су смањени за 22.070.000 дин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80960" y="3786120"/>
            <a:ext cx="7527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Расходи за запослене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у повећани за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11.063.0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динар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ff"/>
                </a:solidFill>
                <a:latin typeface="Arial"/>
              </a:rPr>
              <a:t>Коришћење роба и услуга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су повећане за 119.448.641 динар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Субвенције</a:t>
            </a:r>
            <a:r>
              <a:rPr b="1" lang="en-US" sz="17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у повећане за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15.452.0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динар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SimSu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редства резерв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 повећана 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.965.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ин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сходи за социјалну зашти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у повећани за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15.7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000 динар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071720" y="2357280"/>
            <a:ext cx="485640" cy="928800"/>
          </a:xfrm>
          <a:prstGeom prst="downArrow">
            <a:avLst>
              <a:gd name="adj1" fmla="val 50000"/>
              <a:gd name="adj2" fmla="val 50336"/>
            </a:avLst>
          </a:prstGeom>
          <a:solidFill>
            <a:srgbClr val="ff0000"/>
          </a:soli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8088480" y="3786120"/>
            <a:ext cx="485640" cy="1643040"/>
          </a:xfrm>
          <a:prstGeom prst="upArrow">
            <a:avLst>
              <a:gd name="adj1" fmla="val 50000"/>
              <a:gd name="adj2" fmla="val 47240"/>
            </a:avLst>
          </a:prstGeom>
          <a:solidFill>
            <a:srgbClr val="3366ff"/>
          </a:soli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47E0-8D44-406E-B5BF-70F4BD50E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4D58-F87B-492E-95D8-116499F88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024C-1A49-405C-9AFF-D2B680FAB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2" descr="Резултат слика за paracin"/>
          <p:cNvPicPr/>
          <p:nvPr/>
        </p:nvPicPr>
        <p:blipFill>
          <a:blip r:embed="rId1"/>
          <a:stretch/>
        </p:blipFill>
        <p:spPr>
          <a:xfrm>
            <a:off x="3143160" y="719280"/>
            <a:ext cx="2571840" cy="185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Резултат слика за paracin slike grada"/>
          <p:cNvPicPr/>
          <p:nvPr/>
        </p:nvPicPr>
        <p:blipFill>
          <a:blip r:embed="rId2"/>
          <a:stretch/>
        </p:blipFill>
        <p:spPr>
          <a:xfrm>
            <a:off x="357120" y="3500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Резултат слика за paracin slike grada"/>
          <p:cNvPicPr/>
          <p:nvPr/>
        </p:nvPicPr>
        <p:blipFill>
          <a:blip r:embed="rId3"/>
          <a:stretch/>
        </p:blipFill>
        <p:spPr>
          <a:xfrm>
            <a:off x="357120" y="785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Резултат слика за paracin slike grada"/>
          <p:cNvPicPr/>
          <p:nvPr/>
        </p:nvPicPr>
        <p:blipFill>
          <a:blip r:embed="rId4"/>
          <a:stretch/>
        </p:blipFill>
        <p:spPr>
          <a:xfrm>
            <a:off x="6286680" y="342900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Резултат слика за paracin slike grada"/>
          <p:cNvPicPr/>
          <p:nvPr/>
        </p:nvPicPr>
        <p:blipFill>
          <a:blip r:embed="rId5"/>
          <a:stretch/>
        </p:blipFill>
        <p:spPr>
          <a:xfrm>
            <a:off x="5857920" y="714240"/>
            <a:ext cx="2978280" cy="180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Резултат слика за grza slike"/>
          <p:cNvPicPr/>
          <p:nvPr/>
        </p:nvPicPr>
        <p:blipFill>
          <a:blip r:embed="rId6"/>
          <a:stretch/>
        </p:blipFill>
        <p:spPr>
          <a:xfrm>
            <a:off x="3143160" y="3500280"/>
            <a:ext cx="3062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9450-4044-4F60-945F-2D49910A8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7880" y="115560"/>
            <a:ext cx="77882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асходи буџета по програм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2C79-4110-45DD-B8BF-C90301F7D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907920"/>
          <a:ext cx="8208720" cy="5349960"/>
        </p:xfrm>
        <a:graphic>
          <a:graphicData uri="http://schemas.openxmlformats.org/drawingml/2006/table">
            <a:tbl>
              <a:tblPr/>
              <a:tblGrid>
                <a:gridCol w="4660920"/>
                <a:gridCol w="2520720"/>
                <a:gridCol w="102708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ив прогр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а из Одлуке о буџету за 20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годину  (износ у динарим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 буџета по програ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. Становање, урбанизам и просторно планир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2. Комуналне дела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.05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4. Развој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134.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5. Пољопривреда и рурални разво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32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6. Заштита животне среди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7. Организација саобраћаја и саобраћајна инфраструк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.963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8. Предшколско васпитање и образо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10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9. Основно образовање и васпит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0. Средње образовање и васпит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1. Социјална и дечија зашт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2. Здравствена зашт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5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3. Развој културе и информис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84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4. Развој спорта и омлади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78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5. Опште услуге локалне самоуправ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3.494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6. Политички систем локалне самоупра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95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ергетска ефикас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и расходи по програм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6.051.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2F7E-FA20-49C0-B0B2-AD9B477DC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Структура расхода по буџетским програмим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AEEF-9A02-4DC3-98E4-F008B2E1A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hart 6" descr=""/>
          <p:cNvPicPr/>
          <p:nvPr/>
        </p:nvPicPr>
        <p:blipFill>
          <a:blip r:embed="rId1"/>
          <a:stretch/>
        </p:blipFill>
        <p:spPr>
          <a:xfrm>
            <a:off x="914400" y="1200240"/>
            <a:ext cx="71438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8291-A1CB-44F4-AF34-034E62403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асходи буџета расподељени по директним и индиректним буџетским корисниц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4360" y="1341360"/>
          <a:ext cx="7632720" cy="4830840"/>
        </p:xfrm>
        <a:graphic>
          <a:graphicData uri="http://schemas.openxmlformats.org/drawingml/2006/table">
            <a:tbl>
              <a:tblPr/>
              <a:tblGrid>
                <a:gridCol w="576000"/>
                <a:gridCol w="4429080"/>
                <a:gridCol w="1641600"/>
                <a:gridCol w="986040"/>
              </a:tblGrid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. б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ив буџетског корис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а из Одлуке о буџету за 20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годину  (износ у динарим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 буџета по корисн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упштина општ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едник општ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штинско већ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3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штинско правобранилаш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а за урбанизам, финанс. скупшт. и опште посло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.73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а за инвестиције и одрживи разво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5.36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а за ЛЕР, јавне службе и друштв. дела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.10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не заједн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чајни музеј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тека ‘’Др Вићентије Ракић’’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39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турни центар ‘’Параћин’’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50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 омладине ‘’Параћин’’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770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ориште ‘’Параћин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8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Ц ‘’7 Јули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5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Ц ‘’Борац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7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школска установа ‘’Бамби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.10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ичка организација општине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34.4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К У П Н 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56.051.4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0923-FFA2-4E8B-BDA5-119424257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B2C1-7C12-47EB-BD28-5F1D9255F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981000"/>
          <a:ext cx="7488360" cy="5021280"/>
        </p:xfrm>
        <a:graphic>
          <a:graphicData uri="http://schemas.openxmlformats.org/drawingml/2006/table">
            <a:tbl>
              <a:tblPr/>
              <a:tblGrid>
                <a:gridCol w="4148280"/>
                <a:gridCol w="982440"/>
                <a:gridCol w="1179720"/>
                <a:gridCol w="1177920"/>
              </a:tblGrid>
              <a:tr h="503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ив прој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1224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ана сред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ос у динарима</a:t>
                      </a: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1224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нструкција, надзор градских улица и израда пројектно техничке документ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1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радња и надзор сеоских у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5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г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улица у сеоским МЗ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105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27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авка возила и посуда за сакупљање и транспорт комуналног отп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4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радња канализационе и водоводне мреже на територији општине Параћин, надзор и изр. пројектно тех. доку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3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јекат изградње градских и приградских улиц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годин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24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 израде техничке документације за изградњу и реконстр. Објеката Опште болнице и Дома здравља 2018-2019. год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28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радња водоводне мреже од Мириловца према насељу Чукара  и надз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5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радња и надзор фекалне канализационе мреже испод реке Црнице у Глав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зор над извођењем радова  на санацији и адаптацији ОШ ‘’Радоје Домановић’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9580-26DC-4B18-95DA-ADB9B3149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ајважнији капитални пројек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E471-F17C-4A54-B53E-98A15BCC9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928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крају желимо да Вам се захвалимо што сте издвојили време за читање ове презентације буџе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олико сте заинтересовани да сагледате у целини Одлуку о буџету општине Параћин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 202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годину, исту можете преузети на следећем линку интернет странице општине Параћи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www.paracin.rs/index.php/budzet-opstine-parac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48A6-588F-45D8-A6BB-032D4DFE9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116000" y="476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95b3d7"/>
                </a:solidFill>
                <a:latin typeface="Calibri"/>
              </a:rPr>
              <a:t>САДРЖА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971640" y="1268280"/>
            <a:ext cx="7537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 се финансира из буџ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ако настаје буџет општ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Појам буџ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Ко учествује у буџетском процес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На основу чега се доноси буџ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ако се пуни општинска ка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Шта су приходи и примања буџ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Структура планираних прихода и примања за 2022. год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Шта се променило у односу на 2021. год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 шта се троше јавна сред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та су расходи и издаци буџ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Структура планираних расхода и издатака за 2022. год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Шта се променило у односу на 2021. год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ходи буџета по програм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ходи буџета расподељени по директним и индиректним буџетским корисниц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Најважнији капитални прој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Најважнији пројекти од интереса за локалну зајед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FA1F-EEB9-4672-A412-6B7C02AE1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C46A-252F-4428-A59F-C99EAFCD7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543C-9470-4CC9-A4C1-39378F22F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380880" y="35244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раги суграђани и суграђан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сновна сврха документа који је пред вама јесте да на што једноставнији и разумљивији начин објасни у које сврхе се користе јавни ресурси да би се задовољиле потребе грађ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ађански буџет представља сажет и јасан приказ Одлуке о буџету општине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раћин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 2022. годину, која је по својој форми веома обимна и тешка за разумевање због специфичних појмова и класификација које је ч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ако је немогуће објаснити целокупан буџет у овако краткој форми, искрено се надамо да ћемо на овај начин успети да вас информишемо о начину прикупљања јавних средстава и остваривања прихода и примања буџета општине, као и о начину планирања, расподеле и трошења буџетских средст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оз овај транспарентан приступ настојимо да унапредимо разумевање и интересовање наших суграђана за локалне финансије, а у перспективи очекујемо и сарадњу локалне самоуправе и житеља у заједничком постављању циљева, дефинисању приоритета и планирању развоја наше општ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едседник општ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адимир Милићевић, дипл. инж. по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4A0D-54BE-4CC3-8985-317C15A75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 се финансира из буџ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иректни корисници буџетских средста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Скупштина општи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Председник општи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Општинско већ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Општинско правобранилаш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Управа за урбанизам, финансије, скупштинске и опште послов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Управа за инвестиције и одрживи разво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Управа за ЛЕР, јавне служб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руштвене делат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директни корисници буџетских средста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Месне заједниц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Завичајни музеј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Библиотека ‘’Др. Вићентије Ракић’’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Културни центар ‘’Параћин’’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Дом омладине ‘’Параћин’’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Позориште ‘’Параћин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СРЦ ‘’7 Јули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СРЦ ‘’Борац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Предшколска установа ‘’Бамби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Туристичка организација општине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821E-070B-4C17-9EB5-B501EA579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стали корисници јавних средст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Образовне установе ( основне и средње школе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Здравствене установе ( Дом здравља и Апотек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Социјалне установе ( Центар за социјални ра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Непрофитне организације (удружења грађана, невладине организације, ит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E9B4-4C1B-49EA-AAE0-26E10BC68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101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Како настаје буџет општин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9D29-298B-4991-A0CD-87DA8559A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25440" y="1339920"/>
            <a:ext cx="84931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БУЏЕТ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општине је правни документ који утврђује план прихода и примања и расхода и издатака општине за буџетску, односно календарску годин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То значи да овај документ представља предвиђање колико ће се новца од грађана и привреде у току једне године прикупити и на који начин ће се тај новац троши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Из општинског буџета се током године плаћају све обавезе локалне самоуправе. Исто тако у буџет се сливају приходи из којих се подмирују те обавез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Председник општине и локална управа спроводе општинску политику, а главна полуга те политике и развоја је управо буџет општин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Приликом дефинисања овог, за општину Параћин најважнијег документа, руководе се законским оквиром и прописима, стратешким приоритетима развоја и другим елементим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Реалност је таква да постоје велике разлике између жеља и могућности, тако да креирање буџета подразумева утврђивање приоритета и прављење компромис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2AF9-EB24-4F66-A5EC-C7B6EFEC5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Ко учествује у буџетском процес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031F-808E-441C-BF85-432B24271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Diagram 3" descr=""/>
          <p:cNvPicPr/>
          <p:nvPr/>
        </p:nvPicPr>
        <p:blipFill>
          <a:blip r:embed="rId1"/>
          <a:stretch/>
        </p:blipFill>
        <p:spPr>
          <a:xfrm>
            <a:off x="957240" y="1401840"/>
            <a:ext cx="6838920" cy="41338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6156360" y="3429000"/>
            <a:ext cx="122400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ffffff"/>
                </a:solidFill>
                <a:latin typeface="Calibri"/>
              </a:rPr>
              <a:t>Грађани и њихова удружењ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5867280" y="4869000"/>
            <a:ext cx="1081080" cy="9363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ffffff"/>
                </a:solidFill>
                <a:latin typeface="Calibri"/>
              </a:rPr>
              <a:t>Јавна предузећ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24784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F0FA-3A3B-4F37-975B-1BC3213E5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490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а основу чега се доноси буџет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EA5D-17BA-4F23-8C9D-A35A8EF65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iagram 3" descr=""/>
          <p:cNvPicPr/>
          <p:nvPr/>
        </p:nvPicPr>
        <p:blipFill>
          <a:blip r:embed="rId1"/>
          <a:stretch/>
        </p:blipFill>
        <p:spPr>
          <a:xfrm>
            <a:off x="536400" y="1633680"/>
            <a:ext cx="77598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tojkovici</dc:creator>
  <dc:description/>
  <dc:language>en-US</dc:language>
  <cp:lastModifiedBy>sjankovi</cp:lastModifiedBy>
  <cp:lastPrinted>2018-01-29T14:26:33Z</cp:lastPrinted>
  <dcterms:modified xsi:type="dcterms:W3CDTF">2022-06-09T12:17:34Z</dcterms:modified>
  <cp:revision>541</cp:revision>
  <dc:subject/>
  <dc:title>ОПШТИНА КОВИН</dc:title>
</cp:coreProperties>
</file>